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8ADD-785C-445F-8B1D-E5F7C513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59FB-D383-4C8C-B76A-749A5F5E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8A15-2A22-469A-ABFB-69E95603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B03-09E3-4EE9-A27F-769760DD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F8BB-F444-48DE-9BF1-53DF05B8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25D-89B1-4549-8BB5-0C363594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E8C9-E4DC-4C40-90C2-46E2C9F3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CC41-2C84-4D9C-AD41-7F8F3546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389-3581-4F40-9BEF-213D9071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7A8B-4985-4CB6-817A-447FD090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964-4921-43E3-9BCF-170A44E7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ECC-FD6F-4EAD-ABCC-AF2D474D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B81F-2F62-4181-A278-F4CAA3B7E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7/Marti_Cienfuegos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bs.org/crucible/bio_hearst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utenberg.org/files/30684/30684-h/30684-h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ohiohistorycentral.org/image.php?rec=265&amp;img=1126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Aguinaldo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2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panish-American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erica’s empire grows with the acquisition of Puerto Rico, Guam, the Philippines, and C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.  Platt Amend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Conditions added to the Cuban constitu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get into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treaties w/other count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US to intervene/protect when necess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naval station on land; Guantanamo B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tecto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ountry whose affairs are partially controlled by a stronger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led 19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Cuba_rel94" descr="Click to return to main story"/>
          <p:cNvPicPr/>
          <p:nvPr/>
        </p:nvPicPr>
        <p:blipFill>
          <a:blip r:embed="rId1"/>
          <a:stretch/>
        </p:blipFill>
        <p:spPr>
          <a:xfrm>
            <a:off x="4952880" y="1981080"/>
            <a:ext cx="3272040" cy="2298960"/>
          </a:xfrm>
          <a:prstGeom prst="rect">
            <a:avLst/>
          </a:prstGeom>
          <a:ln w="0">
            <a:noFill/>
          </a:ln>
        </p:spPr>
      </p:pic>
      <p:pic>
        <p:nvPicPr>
          <p:cNvPr id="83" name="images" descr=""/>
          <p:cNvPicPr/>
          <p:nvPr/>
        </p:nvPicPr>
        <p:blipFill>
          <a:blip r:embed="rId2"/>
          <a:stretch/>
        </p:blipFill>
        <p:spPr>
          <a:xfrm>
            <a:off x="4876920" y="4419720"/>
            <a:ext cx="34081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  Puerto Rico (PR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ed it’s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 did not give it, but gives them citizenships in 19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aker Act (1900) establishes gov’t in 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images" descr=""/>
          <p:cNvPicPr/>
          <p:nvPr/>
        </p:nvPicPr>
        <p:blipFill>
          <a:blip r:embed="rId1"/>
          <a:stretch/>
        </p:blipFill>
        <p:spPr>
          <a:xfrm>
            <a:off x="5181480" y="4267080"/>
            <a:ext cx="2951280" cy="1960560"/>
          </a:xfrm>
          <a:prstGeom prst="rect">
            <a:avLst/>
          </a:prstGeom>
          <a:ln w="0">
            <a:noFill/>
          </a:ln>
        </p:spPr>
      </p:pic>
      <p:pic>
        <p:nvPicPr>
          <p:cNvPr id="88" name="caribnew" descr="Caribbean Map, Caribbean Islands, Map of the Caribbean, West Indies Map"/>
          <p:cNvPicPr/>
          <p:nvPr/>
        </p:nvPicPr>
        <p:blipFill>
          <a:blip r:embed="rId2"/>
          <a:stretch/>
        </p:blipFill>
        <p:spPr>
          <a:xfrm>
            <a:off x="4572000" y="1600200"/>
            <a:ext cx="42670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.  Philippine-American War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lio Agui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set US took over after S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olted against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year w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used same tactics as Spain against 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war $400m; US paid $20m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 controls from 1902-19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am Taft, appt. Gov., increased schools, hospitals, r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ce gained July 4,19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merica and Cub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as U.S. so interested in Cu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 cane plantations = big business; major buy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impose tariffs (fees/taxes)= ruined economy for Cuba/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se Ma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ban rebel lived in 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independence from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attempt failed; second did not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ublic of Cuba, 18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File:Marti Cienfuego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52280"/>
            <a:ext cx="3353040" cy="2230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4120" y="2438280"/>
            <a:ext cx="3047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 America Supports Reb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iam Randolph Hearst and Joseph Pulitz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spaper ow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ies about treatment of Cub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ellow journalis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exaggerated news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 Amer. support of Cub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 “Cubans fed to shark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 Spanish Gen. Weyler “The Butcher” – placed thousands of Cubans in concentration camp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William Randolph Hears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2057400"/>
            <a:ext cx="2079720" cy="3271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781680" y="3886200"/>
            <a:ext cx="2136960" cy="276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pulitzer world"/>
          <p:cNvPicPr/>
          <p:nvPr/>
        </p:nvPicPr>
        <p:blipFill>
          <a:blip r:embed="rId4"/>
          <a:stretch/>
        </p:blipFill>
        <p:spPr>
          <a:xfrm>
            <a:off x="6835680" y="990720"/>
            <a:ext cx="230832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.  More reasons to support Cu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. McKinley send USS Maine to Havana in case Spanish loyalist attack Americans in Cu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 Lome letter, by Spanish ambassador, criticizes Pres. McKinley as “wea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S Maine battleship explodes; Spain bla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ngoism – aggressive nationalism, supports 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il 19, 189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s get ready to rumbllllllllllll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1676520"/>
            <a:ext cx="2205000" cy="2857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936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McKinley, William (1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1676520"/>
            <a:ext cx="1989360" cy="2892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105520" y="4441680"/>
            <a:ext cx="3047760" cy="2416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42960" y="57240"/>
            <a:ext cx="669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  War on Two Fro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U.S. declares war on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battle, in Philippines; Spanish colony; wanted independence from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ed by rebel Emilio Aguinal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 Spain surrenders to Americans not Philippin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ilio Aguin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ander George Dew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828800"/>
            <a:ext cx="2143080" cy="2390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629400" y="2971800"/>
            <a:ext cx="2041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.  Invasion of Cuba &amp; P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ade by US success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y was not; poor training, food, &amp; uni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Rough R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command: 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credit for San Juan Hill vi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amp;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vary: all 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% of all Amer. soldiers in Cu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 PR falls soon 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 R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40384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well i hardly know which to take first cartoon"/>
          <p:cNvPicPr/>
          <p:nvPr/>
        </p:nvPicPr>
        <p:blipFill>
          <a:blip r:embed="rId1"/>
          <a:stretch/>
        </p:blipFill>
        <p:spPr>
          <a:xfrm>
            <a:off x="533520" y="419040"/>
            <a:ext cx="815328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.  What to do with the Philippi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Supporters of annexing Philipp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e and christianize them; “civiliz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for Amer.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al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Op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competition 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al 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imm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.  Treaty of Paris 1898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ba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 and Guam annexed by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ippines sold for $2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a</cp:lastModifiedBy>
  <dcterms:modified xsi:type="dcterms:W3CDTF">2010-11-01T02:22:32Z</dcterms:modified>
  <cp:revision>11</cp:revision>
  <dc:subject/>
  <dc:title>PowerPoint Presentation</dc:title>
</cp:coreProperties>
</file>